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zorro-shor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D29-1457-47F9-9FFD-1E60600E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4F1-29F3-43FB-A7EB-F366CE02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B7E-B9A8-45C9-9542-73E33F0C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781-6AE3-4932-AE24-EFE49826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1A2-76AB-4807-A0D9-209F3463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1CEB-0224-4D7A-94D1-192A8BC0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8DC-65F3-4B36-9301-B7CCF89E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CD8-CEF5-4646-A802-DBF8A897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654-E5BB-46CF-8C81-338FD13B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23B-8C69-457B-A159-B2E453E9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BC6-2F92-4821-9E6A-471A2824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B86-AFC0-4B77-941B-D381C46F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A64F-9FAA-4A95-859E-17A2B69F2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orro-short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lass 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143000"/>
            <a:ext cx="6934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el of Fort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5905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zorro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each student an index card with a number from 1-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are instructed to write a review question, math problem, or spelling word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he Spin But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wheel hits the number on the index card, the student chooses who will receive the question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066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4344000">
            <a:off x="5714640" y="182880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24:23Z</dcterms:created>
  <dc:creator>Connie Campbell</dc:creator>
  <dc:description/>
  <dc:language>en-US</dc:language>
  <cp:lastModifiedBy>Connie Campbell</cp:lastModifiedBy>
  <dcterms:modified xsi:type="dcterms:W3CDTF">2006-02-20T23:01:23Z</dcterms:modified>
  <cp:revision>6</cp:revision>
  <dc:subject/>
  <dc:title>Wheel of Fortune</dc:title>
</cp:coreProperties>
</file>